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B90B-7ED4-468B-A646-8ABEBFCFA0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D5FB-A2C7-45D2-AF06-8C3507649B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d carbon printing calculator from www.hp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FDBD-6181-4733-A477-E15B398DFF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F3B-B525-47CA-AE57-E65B59F0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3E0-7F92-4D53-90FA-C9EFF5B3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790-78C7-46C9-A95A-75DBDBF5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EEB-2592-4024-AF4B-1B7AC63C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598C-486C-4D7D-A36B-E4D171B0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76B4-CA69-4CD3-A5C5-DE6D5D16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0392-459E-4C96-82E6-26847871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69DB-0CB6-45C8-8FE6-1C78A547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42A5-9B72-4C4C-93DA-FAD792C1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8469-EB17-489D-BBE6-BD487C53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322E-AFC8-4519-BB00-C4217DA7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C6D-9709-4B7C-B60C-E3E29122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CAD9-15BF-4734-A53D-3CA39D1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A109-B4FF-49E2-A6EF-2BE282F1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60E7-B16D-404D-839C-1775D8A2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7E3D-07A9-4B74-A61A-B1763217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7584-5D80-4809-880C-D28940E5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68CA-1919-43B9-8DB4-B4553C17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F22E2-3F13-4D47-B3F5-BF1CE902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A9BEA-66DD-4EBE-9381-56640BE7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DC43-B9AF-4472-9C8F-CC3875D1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4921-02B4-49AC-A80D-2AE37ED5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62F-D740-4335-9E0D-11D20BB9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6CA3-ED4B-458F-825E-6E2FFCB9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303D-EA55-4CAB-9FE7-F4246C1B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18E4-B57B-4C29-90CF-4B669772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F8FD-3472-40E2-B6C1-7A6741E3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AF7C-B023-4376-9921-A828ECA4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7817-FEF5-4A22-A7A1-2C1B7B74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5300-A335-4886-AF7A-D6E3788D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B392-B5A9-45D7-BF1A-859B3527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81A82-F85E-4075-B732-24BEDF7E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3CF0-8E25-4200-BC23-79144F2D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1CF-DC84-4583-B41A-1025F72C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9A5A8-B307-4918-87C7-0BFB7A29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062E3-D979-47A7-ACF7-CEF04031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811E5-3916-43CE-B7C8-D2DD73AA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82A96-0DE4-4B65-97C6-88C5BBF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529A-5041-46FC-AA54-CC2D788C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1223-6592-4B55-8EB3-7BB78A55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E56C-60E3-40C4-8991-5CD6AAA8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C910F-38F8-4CB3-B279-07B77205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E6656-A9A7-4005-9B97-BC0CD040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B09-2ECF-4187-A54D-D2AF2881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9F5-B47A-4D20-B4CD-72D4F0A4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768-F534-43B9-929C-2773A09C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9D4-D738-462C-BB56-EE85020A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874-0141-4A5E-BAB1-CBCE7628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A785-B294-4480-96BA-6A10EA97B50C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E712-D752-428A-AB77-D65A3016D87D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F1B9-C44B-46F1-B395-9C2C1050FD94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11E3-A279-4D10-AC56-900D81EAD015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isioncabling.com.au/services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10 PC’s &amp; ‘green’ printer to minimize CO2 emiss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his is a SOHO and the Equipment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0 PC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Green Prin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er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wit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Wireless enabled Rou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m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Cloud"/>
          <p:cNvSpPr/>
          <p:nvPr/>
        </p:nvSpPr>
        <p:spPr>
          <a:xfrm>
            <a:off x="0" y="1125360"/>
            <a:ext cx="1800360" cy="1204920"/>
          </a:xfrm>
          <a:custGeom>
            <a:avLst/>
            <a:gdLst>
              <a:gd name="textAreaLeft" fmla="*/ 248040 w 1800360"/>
              <a:gd name="textAreaRight" fmla="*/ 1424160 w 1800360"/>
              <a:gd name="textAreaTop" fmla="*/ 181800 h 1204920"/>
              <a:gd name="textAreaBottom" fmla="*/ 967320 h 1204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C:\Users\Administrator\AppData\Local\Microsoft\Windows\Temporary Internet Files\Content.IE5\1JQQ7I3X\MC900432567[1].png"/>
          <p:cNvPicPr/>
          <p:nvPr/>
        </p:nvPicPr>
        <p:blipFill>
          <a:blip r:embed="rId1"/>
          <a:stretch/>
        </p:blipFill>
        <p:spPr>
          <a:xfrm>
            <a:off x="5724360" y="836640"/>
            <a:ext cx="1584360" cy="113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Users\Administrator\AppData\Local\Microsoft\Windows\Temporary Internet Files\Content.IE5\U6FDESM4\MC900431576[1].png"/>
          <p:cNvPicPr/>
          <p:nvPr/>
        </p:nvPicPr>
        <p:blipFill>
          <a:blip r:embed="rId2"/>
          <a:stretch/>
        </p:blipFill>
        <p:spPr>
          <a:xfrm>
            <a:off x="7451640" y="5084640"/>
            <a:ext cx="1528920" cy="153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Users\Administrator\AppData\Local\Microsoft\Windows\Temporary Internet Files\Content.IE5\U6FDESM4\MC900431576[1].png"/>
          <p:cNvPicPr/>
          <p:nvPr/>
        </p:nvPicPr>
        <p:blipFill>
          <a:blip r:embed="rId3"/>
          <a:stretch/>
        </p:blipFill>
        <p:spPr>
          <a:xfrm>
            <a:off x="5292720" y="5013360"/>
            <a:ext cx="1527120" cy="1538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:\Users\Administrator\AppData\Local\Microsoft\Windows\Temporary Internet Files\Content.IE5\U6FDESM4\MC900431576[1].png"/>
          <p:cNvPicPr/>
          <p:nvPr/>
        </p:nvPicPr>
        <p:blipFill>
          <a:blip r:embed="rId4"/>
          <a:stretch/>
        </p:blipFill>
        <p:spPr>
          <a:xfrm>
            <a:off x="3203640" y="4941720"/>
            <a:ext cx="1528560" cy="1538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C:\Users\Administrator\AppData\Local\Microsoft\Windows\Temporary Internet Files\Content.IE5\KPFVNEAZ\MC900282474[1].wmf"/>
          <p:cNvPicPr/>
          <p:nvPr/>
        </p:nvPicPr>
        <p:blipFill>
          <a:blip r:embed="rId5"/>
          <a:stretch/>
        </p:blipFill>
        <p:spPr>
          <a:xfrm>
            <a:off x="611280" y="4581360"/>
            <a:ext cx="1827000" cy="1522440"/>
          </a:xfrm>
          <a:prstGeom prst="rect">
            <a:avLst/>
          </a:prstGeom>
          <a:ln w="0">
            <a:noFill/>
          </a:ln>
        </p:spPr>
      </p:pic>
      <p:cxnSp>
        <p:nvCxnSpPr>
          <p:cNvPr id="214" name="Straight Arrow Connector 13"/>
          <p:cNvCxnSpPr/>
          <p:nvPr/>
        </p:nvCxnSpPr>
        <p:spPr>
          <a:xfrm>
            <a:off x="1907640" y="1557000"/>
            <a:ext cx="4033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pic>
        <p:nvPicPr>
          <p:cNvPr id="215" name="Picture 9" descr="C:\Users\Administrator\AppData\Local\Microsoft\Windows\Temporary Internet Files\Content.IE5\MKL3RYBI\MC900434845[1].png"/>
          <p:cNvPicPr/>
          <p:nvPr/>
        </p:nvPicPr>
        <p:blipFill>
          <a:blip r:embed="rId6"/>
          <a:stretch/>
        </p:blipFill>
        <p:spPr>
          <a:xfrm>
            <a:off x="3780000" y="2565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:\Users\Administrator\AppData\Local\Microsoft\Windows\Temporary Internet Files\Content.IE5\MKL3RYBI\MC900434845[1].png"/>
          <p:cNvPicPr/>
          <p:nvPr/>
        </p:nvPicPr>
        <p:blipFill>
          <a:blip r:embed="rId7"/>
          <a:stretch/>
        </p:blipFill>
        <p:spPr>
          <a:xfrm>
            <a:off x="6300720" y="2421000"/>
            <a:ext cx="1714680" cy="1714320"/>
          </a:xfrm>
          <a:prstGeom prst="rect">
            <a:avLst/>
          </a:prstGeom>
          <a:ln w="0">
            <a:noFill/>
          </a:ln>
        </p:spPr>
      </p:pic>
      <p:cxnSp>
        <p:nvCxnSpPr>
          <p:cNvPr id="217" name="Straight Arrow Connector 17"/>
          <p:cNvCxnSpPr/>
          <p:nvPr/>
        </p:nvCxnSpPr>
        <p:spPr>
          <a:xfrm>
            <a:off x="5076360" y="3284280"/>
            <a:ext cx="13676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8" name="Straight Arrow Connector 19"/>
          <p:cNvCxnSpPr/>
          <p:nvPr/>
        </p:nvCxnSpPr>
        <p:spPr>
          <a:xfrm flipH="1" flipV="1">
            <a:off x="6659280" y="1628280"/>
            <a:ext cx="434160" cy="1153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9" name="Straight Arrow Connector 21"/>
          <p:cNvCxnSpPr/>
          <p:nvPr/>
        </p:nvCxnSpPr>
        <p:spPr>
          <a:xfrm flipH="1">
            <a:off x="2267640" y="3860640"/>
            <a:ext cx="1799640" cy="1224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0" name="Straight Arrow Connector 23"/>
          <p:cNvCxnSpPr/>
          <p:nvPr/>
        </p:nvCxnSpPr>
        <p:spPr>
          <a:xfrm flipH="1">
            <a:off x="4426920" y="4005360"/>
            <a:ext cx="73800" cy="1224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1" name="Straight Arrow Connector 25"/>
          <p:cNvCxnSpPr/>
          <p:nvPr/>
        </p:nvCxnSpPr>
        <p:spPr>
          <a:xfrm>
            <a:off x="4787640" y="3933720"/>
            <a:ext cx="1369080" cy="1440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2" name="Straight Arrow Connector 27"/>
          <p:cNvCxnSpPr/>
          <p:nvPr/>
        </p:nvCxnSpPr>
        <p:spPr>
          <a:xfrm>
            <a:off x="5003280" y="3789360"/>
            <a:ext cx="3025080" cy="1728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Overview and C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1176480"/>
          <a:ext cx="8229600" cy="4862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ite/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ww.open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P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99.01 x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h20386.www2.hp.com/AustraliaStore/images/AUOLS_R2/products.html#/u=0,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 Pri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0 initial cost of setup and pay per print de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ww.konicaminolta.com.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lindy.com.au/networking_switches.h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dell.com/au/business/p/poweredge-t320/pd?oc=u421302au&amp;model_id=poweredge-t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u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jbhifionline.com.au/computers-laptops/computer-accessories/d-link-dir632-wireless-8-port-router/649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e2d700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http://www.visioncabling.com.au/services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 286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Advanta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No need for expensive licences if we use Linu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tandards are the same across the boa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asier to maint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ost of ownership is cheaper in the long ru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ay per print reduces carbon footpri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sadvanta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ingle point of fail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Not all equipment need to be the s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ost of green printing is higher at fir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Not ideal for a fast growing compa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O2 Emiss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935000"/>
          <a:ext cx="8229600" cy="2243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O2 E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o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P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023 x 10 = 2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ecommend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lways use green certified hardw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ducate all the employees to be energy sm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nvolve all suppliers to comply with your emission targ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trive to attain green IT industrial certif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e involved in local sustainability activ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4:55:43Z</dcterms:created>
  <dc:creator>Administrator</dc:creator>
  <dc:description/>
  <dc:language>en-US</dc:language>
  <cp:lastModifiedBy>Administrator</cp:lastModifiedBy>
  <dcterms:modified xsi:type="dcterms:W3CDTF">2012-10-07T06:12:09Z</dcterms:modified>
  <cp:revision>9</cp:revision>
  <dc:subject/>
  <dc:title>Recommended solution for a small business.</dc:title>
</cp:coreProperties>
</file>